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9AF2-13AE-40B4-B510-8684102FC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61B-C8D1-4496-A72C-73189DAB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D62B-D6BA-4C61-A831-744A1888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BA7-5E7B-48BB-8D06-F380AD04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5B2B8-6297-44B4-AF26-3EF84B276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3AA8-86B1-4622-B7D7-73A201CF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703D-52C4-4924-ADC9-53662252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6C14-AD34-4048-BED9-E31547F8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58A8-E849-48C3-8C01-3945F7D1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D654-56AB-43A8-A55F-3E0FDA55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B8DA-8E7D-46AD-8135-69DD1C0F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CD2-E5F3-4457-9D35-DFBFE3A1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168A-52DE-43E1-9EC5-9C444565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5B24-445C-4CAC-9FFE-AFA5E992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4CBD-31BE-4185-94B2-923A7CF8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AC0B4-C6E7-4B43-8A53-B1B95156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C45F-0EAE-4340-971E-57B16941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80E-5854-42B5-98B6-CDCFADE5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8C2F-0452-4283-8106-B890B93D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2C8-9DF8-4478-B67F-59F805B5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17E-00EF-4A39-8769-318F5E1B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7B26-BF53-4CE5-8740-D4A541E6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C00D-2A54-4259-B085-B9EA9F10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018D-AFF1-4416-8518-56B83835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AD7E-236A-48F3-8C0D-5C8011D9B69A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354418"/>
            </a:solidFill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35441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C1D2-B33B-450A-A63E-715F43523E39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arm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the six steps of the scientific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yesterday’s warm-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which step do we use control and experimental groups, dependent and independent variabl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Scientific Method and Experimentatio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10, 9/1/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Comer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BA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4418"/>
                </a:solidFill>
                <a:latin typeface="Arial"/>
              </a:rPr>
              <a:t>Describe the 6 steps of the scientific meth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54418"/>
                </a:solidFill>
                <a:latin typeface="Arial"/>
              </a:rPr>
              <a:t>Apply the scientific method to a previous experi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important components of experimental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 6 Steps…more detai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/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: “If…then…because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vs. experi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vs. dependent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/Results: graphs, tables,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cc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perimental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s stay the same, remain no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al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ditions are mod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xperimental Desig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t Var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d by experim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being regul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ent Var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d by independ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0897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being measur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44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mpson’s Control &amp; Vari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 out work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in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uss as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 in to fro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4120" y="2057400"/>
            <a:ext cx="28573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1:30:04Z</dcterms:created>
  <dc:creator>Jimmer Comerford</dc:creator>
  <dc:description/>
  <dc:language>en-US</dc:language>
  <cp:lastModifiedBy>Jimmer Comerford</cp:lastModifiedBy>
  <dcterms:modified xsi:type="dcterms:W3CDTF">2009-09-01T05:36:36Z</dcterms:modified>
  <cp:revision>8</cp:revision>
  <dc:subject/>
  <dc:title>Scientific Method</dc:title>
</cp:coreProperties>
</file>